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D24D-6D5B-406B-AED3-9C33418A2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FF04-C717-46B1-9B42-4CDEC3C7A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9297-CC0C-4A43-91CB-D5EB175A3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A7BC-AE7A-4624-89F4-173FCFEC1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18FD-DB09-4D42-BB1E-53894CDD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D131-3F8F-4EC5-B113-B58D03C9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13EE-AE8A-4C54-B293-F93703BD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D9F3-1B49-4C31-A477-EDA09CF0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BE83-7B4F-44EC-B157-EAC9AC76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8BD9-69C1-4893-B72B-D68255F7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64C1-8B91-4C03-A248-EF27BEEA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BBBA-2041-4D42-A6B3-B2614C9D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B59A-CE65-4BFA-BF3F-3FB27FBE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F33B-E541-44D0-9309-32D06B63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A4FD-51FC-42D2-9BBD-D2E85FD1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D549-8BD1-405F-829C-EAA87C35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806E-2A75-417A-92A5-0EA096B4A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rena Chambers, to teach is to lea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rena Cha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C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32781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139680" y="3506760"/>
            <a:ext cx="1841400" cy="15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yvi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cinnati, 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y child, divor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 in Education from TT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nded University of the Cumberla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mily/Colleag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0" y="586728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h,Beth, Me,,Lind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5"/>
          <p:cNvSpPr/>
          <p:nvPr/>
        </p:nvSpPr>
        <p:spPr>
          <a:xfrm>
            <a:off x="1219320" y="5867280"/>
            <a:ext cx="53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ty, Me, Ju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ul,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3"/>
          <p:cNvSpPr/>
          <p:nvPr/>
        </p:nvSpPr>
        <p:spPr>
          <a:xfrm>
            <a:off x="68580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m,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na Chambers decides to go back to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uary 1, 2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7"/>
          <p:cNvSpPr/>
          <p:nvPr/>
        </p:nvSpPr>
        <p:spPr>
          <a:xfrm>
            <a:off x="2819520" y="3200400"/>
            <a:ext cx="4343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na Chambers received her Associates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06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na Chambers received her Bachelor’s Degree in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na Chambers lands first teaching job in Anderson Cou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na Chambers is hired at Elk Valle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1,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na Chambers starts school for Master’s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9,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8" descr="TTU.jpg"/>
          <p:cNvPicPr/>
          <p:nvPr/>
        </p:nvPicPr>
        <p:blipFill>
          <a:blip r:embed="rId4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87" name="Picture 40" descr="DSC00973.JPG"/>
          <p:cNvPicPr/>
          <p:nvPr/>
        </p:nvPicPr>
        <p:blipFill>
          <a:blip r:embed="rId5"/>
          <a:stretch/>
        </p:blipFill>
        <p:spPr>
          <a:xfrm>
            <a:off x="0" y="38088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2" descr="1954e6017168bc2a1314920214.jpg"/>
          <p:cNvPicPr/>
          <p:nvPr/>
        </p:nvPicPr>
        <p:blipFill>
          <a:blip r:embed="rId6"/>
          <a:stretch/>
        </p:blipFill>
        <p:spPr>
          <a:xfrm>
            <a:off x="1676520" y="2514600"/>
            <a:ext cx="914400" cy="533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3" descr="1954e6017168bc2a1314920214.jpg"/>
          <p:cNvPicPr/>
          <p:nvPr/>
        </p:nvPicPr>
        <p:blipFill>
          <a:blip r:embed="rId7"/>
          <a:stretch/>
        </p:blipFill>
        <p:spPr>
          <a:xfrm>
            <a:off x="1676520" y="3200400"/>
            <a:ext cx="914400" cy="533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4" descr="1954e6017168bc2a1314920214.jpg"/>
          <p:cNvPicPr/>
          <p:nvPr/>
        </p:nvPicPr>
        <p:blipFill>
          <a:blip r:embed="rId8"/>
          <a:stretch/>
        </p:blipFill>
        <p:spPr>
          <a:xfrm>
            <a:off x="1676520" y="3962520"/>
            <a:ext cx="914400" cy="533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5" descr="1954e6017168bc2a1314920214.jpg"/>
          <p:cNvPicPr/>
          <p:nvPr/>
        </p:nvPicPr>
        <p:blipFill>
          <a:blip r:embed="rId9"/>
          <a:stretch/>
        </p:blipFill>
        <p:spPr>
          <a:xfrm>
            <a:off x="1676520" y="4648320"/>
            <a:ext cx="914400" cy="53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6" descr="1954e6017168bc2a1314920214.jpg"/>
          <p:cNvPicPr/>
          <p:nvPr/>
        </p:nvPicPr>
        <p:blipFill>
          <a:blip r:embed="rId10"/>
          <a:stretch/>
        </p:blipFill>
        <p:spPr>
          <a:xfrm>
            <a:off x="1676520" y="5257800"/>
            <a:ext cx="914400" cy="533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7" descr="1954e6017168bc2a1314920214.jpg"/>
          <p:cNvPicPr/>
          <p:nvPr/>
        </p:nvPicPr>
        <p:blipFill>
          <a:blip r:embed="rId11"/>
          <a:stretch/>
        </p:blipFill>
        <p:spPr>
          <a:xfrm>
            <a:off x="1676520" y="5867280"/>
            <a:ext cx="914400" cy="533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8" descr="5984e601a86c8bb51314921094.jpg"/>
          <p:cNvPicPr/>
          <p:nvPr/>
        </p:nvPicPr>
        <p:blipFill>
          <a:blip r:embed="rId12"/>
          <a:stretch/>
        </p:blipFill>
        <p:spPr>
          <a:xfrm>
            <a:off x="152280" y="5334120"/>
            <a:ext cx="85896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9" descr="9744e601bf08ae361314921456.jpg"/>
          <p:cNvPicPr/>
          <p:nvPr/>
        </p:nvPicPr>
        <p:blipFill>
          <a:blip r:embed="rId13"/>
          <a:stretch/>
        </p:blipFill>
        <p:spPr>
          <a:xfrm>
            <a:off x="1066680" y="5334120"/>
            <a:ext cx="609840" cy="514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0" descr="8844e601cbb3b9711314921659.jpg"/>
          <p:cNvPicPr/>
          <p:nvPr/>
        </p:nvPicPr>
        <p:blipFill>
          <a:blip r:embed="rId14"/>
          <a:stretch/>
        </p:blipFill>
        <p:spPr>
          <a:xfrm>
            <a:off x="152280" y="6172200"/>
            <a:ext cx="685800" cy="487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1" descr="4374e601d7d4ad521314921853.jpg"/>
          <p:cNvPicPr/>
          <p:nvPr/>
        </p:nvPicPr>
        <p:blipFill>
          <a:blip r:embed="rId15"/>
          <a:stretch/>
        </p:blipFill>
        <p:spPr>
          <a:xfrm>
            <a:off x="838080" y="6324480"/>
            <a:ext cx="8384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rena Chambers is always striving to be a better teach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rena Cha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SC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2895480" y="1143000"/>
            <a:ext cx="762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ersonal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8"/>
          <p:cNvSpPr/>
          <p:nvPr/>
        </p:nvSpPr>
        <p:spPr>
          <a:xfrm>
            <a:off x="152280" y="31719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152280" y="3400560"/>
            <a:ext cx="205740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y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cinnati, 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y child. Divorced for 18 yea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 in Education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nded University of the Cumberla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2"/>
          <p:cNvSpPr/>
          <p:nvPr/>
        </p:nvSpPr>
        <p:spPr>
          <a:xfrm>
            <a:off x="152280" y="4924440"/>
            <a:ext cx="1600200" cy="22860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4"/>
          <p:cNvSpPr/>
          <p:nvPr/>
        </p:nvSpPr>
        <p:spPr>
          <a:xfrm>
            <a:off x="2133720" y="1905120"/>
            <a:ext cx="312408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eptember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ary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ating Paul for 8 year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Bapt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5"/>
          <p:cNvSpPr/>
          <p:nvPr/>
        </p:nvSpPr>
        <p:spPr>
          <a:xfrm>
            <a:off x="2133720" y="3200400"/>
            <a:ext cx="44956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hurch involvement, shopping, and gardening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Real estate, cooking, and mus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Country, Bluegrass, and Gospel: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Sergeant York,  Sweet Home Alabama, Gone with the Wind, Th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ve Affair, most TCM movies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my Wives, Hawthrone, and The Dugga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Gone with the Wind, Cythina Rylant books ,Nory Ryan’s Song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alachian themes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3"/>
          <p:cNvSpPr/>
          <p:nvPr/>
        </p:nvSpPr>
        <p:spPr>
          <a:xfrm>
            <a:off x="2133720" y="5105520"/>
            <a:ext cx="426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Wiki Page 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chambersl2@k12tn.net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65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Chambers21@tntech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4" descr="8694e601e60e17d91314922080.jpg"/>
          <p:cNvPicPr/>
          <p:nvPr/>
        </p:nvPicPr>
        <p:blipFill>
          <a:blip r:embed="rId1"/>
          <a:stretch/>
        </p:blipFill>
        <p:spPr>
          <a:xfrm>
            <a:off x="0" y="380880"/>
            <a:ext cx="1752480" cy="1428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7" descr="MM900356713.GIF"/>
          <p:cNvPicPr/>
          <p:nvPr/>
        </p:nvPicPr>
        <p:blipFill>
          <a:blip r:embed="rId2"/>
          <a:stretch/>
        </p:blipFill>
        <p:spPr>
          <a:xfrm>
            <a:off x="7315200" y="533520"/>
            <a:ext cx="12700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3657600" y="0"/>
            <a:ext cx="16002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5257800" y="0"/>
            <a:ext cx="11430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rena Cha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685800" y="1523880"/>
            <a:ext cx="198108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family and frien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6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rena Chambers is always striving to be a better teach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6" descr="9514e60230f562bc1314923279.jpg"/>
          <p:cNvPicPr/>
          <p:nvPr/>
        </p:nvPicPr>
        <p:blipFill>
          <a:blip r:embed="rId1"/>
          <a:stretch/>
        </p:blipFill>
        <p:spPr>
          <a:xfrm>
            <a:off x="457200" y="1981080"/>
            <a:ext cx="1295280" cy="838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5254e6023e086fcd1314923488.jpg"/>
          <p:cNvPicPr/>
          <p:nvPr/>
        </p:nvPicPr>
        <p:blipFill>
          <a:blip r:embed="rId2"/>
          <a:stretch/>
        </p:blipFill>
        <p:spPr>
          <a:xfrm>
            <a:off x="2057400" y="1981080"/>
            <a:ext cx="1295280" cy="838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8" descr="0604e6024b99b70a1314923705.jpg"/>
          <p:cNvPicPr/>
          <p:nvPr/>
        </p:nvPicPr>
        <p:blipFill>
          <a:blip r:embed="rId3"/>
          <a:stretch/>
        </p:blipFill>
        <p:spPr>
          <a:xfrm>
            <a:off x="3505320" y="1981080"/>
            <a:ext cx="1218960" cy="914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5524e60250a9af881314923786.jpg"/>
          <p:cNvPicPr/>
          <p:nvPr/>
        </p:nvPicPr>
        <p:blipFill>
          <a:blip r:embed="rId4"/>
          <a:stretch/>
        </p:blipFill>
        <p:spPr>
          <a:xfrm>
            <a:off x="533520" y="388620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0" descr="2344e60263bb7faf1314924091.jpg"/>
          <p:cNvPicPr/>
          <p:nvPr/>
        </p:nvPicPr>
        <p:blipFill>
          <a:blip r:embed="rId5"/>
          <a:stretch/>
        </p:blipFill>
        <p:spPr>
          <a:xfrm>
            <a:off x="2057400" y="3657600"/>
            <a:ext cx="1981080" cy="1333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1" descr="2504e6027025dece1314924290.jpg"/>
          <p:cNvPicPr/>
          <p:nvPr/>
        </p:nvPicPr>
        <p:blipFill>
          <a:blip r:embed="rId6"/>
          <a:stretch/>
        </p:blipFill>
        <p:spPr>
          <a:xfrm>
            <a:off x="4343400" y="3581280"/>
            <a:ext cx="1981080" cy="14479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2"/>
          <p:cNvSpPr/>
          <p:nvPr/>
        </p:nvSpPr>
        <p:spPr>
          <a:xfrm>
            <a:off x="304920" y="2895480"/>
            <a:ext cx="441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hool teachers                      Micheal Combs &amp;                Me at Tita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Elk Valley                                   Aunt June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3"/>
          <p:cNvSpPr/>
          <p:nvPr/>
        </p:nvSpPr>
        <p:spPr>
          <a:xfrm>
            <a:off x="533520" y="5105520"/>
            <a:ext cx="56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ul &amp; Me                           Mom at Christmas                                            Snow day at h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23:27:46Z</dcterms:created>
  <dc:creator>FriscoISD</dc:creator>
  <dc:description/>
  <dc:language>en-US</dc:language>
  <cp:lastModifiedBy>Lorena Chambers</cp:lastModifiedBy>
  <dcterms:modified xsi:type="dcterms:W3CDTF">2011-09-02T00:50:43Z</dcterms:modified>
  <cp:revision>77</cp:revision>
  <dc:subject/>
  <dc:title>Profile</dc:title>
</cp:coreProperties>
</file>